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045C-C437-48C0-A10B-6F96B1EE4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4F4-B54E-4EAF-B61E-A56582CA9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729A-6B53-454B-9F60-FAA79A2B2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F89-FB2B-4BA9-9EFB-7B8797B3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114F-0F00-4DB8-8EBC-9713A8C1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0218B-4913-438A-909E-8577CE6D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B43B-63B1-4141-8BB5-9FE93C45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EB26-7068-42D0-AE72-ABBA1396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12B2-BC47-46D4-AEB1-2669E37C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6449-3697-4410-B60B-0327E281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B4A7-648B-44F8-9ED6-D13772E7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4B7B-00A9-49E8-A8C3-B61348A7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5D5C-D1A3-4695-91A4-15EBC25C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ACA7-B224-43E1-BBB9-ADF3F5F3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41EB0-611D-4684-9CCE-0C12F6DD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3900-712B-49F4-90C1-8498FA49F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CFD72-F093-4E3F-B30D-43677C3E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E1C-5742-48C1-8D8B-658D4BE4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7F89-B6F4-4A36-B7F0-641E8F85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4B99-753E-45E8-8575-F809EC8E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6A0-F16A-4F1C-8BFE-FE101CD6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4335-79D3-45D8-9976-17916DF0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5CBA-1F5A-47AF-BA41-C09D68BE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AC4-3FF8-4623-94B1-E450CFAB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15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just">
              <a:spcBef>
                <a:spcPts val="15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just">
              <a:spcBef>
                <a:spcPts val="15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4FD2-5E45-49A4-9656-6D27847EAE50}" type="slidenum">
              <a:rPr b="0" lang="ru-RU" sz="14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DA4E-6D72-42B1-845F-6DA516501B4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2000" y="790560"/>
            <a:ext cx="247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www.klyaksa.net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790560"/>
            <a:ext cx="33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Информатика в школе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Другие сервисы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4600" spc="-1" strike="noStrike">
                <a:solidFill>
                  <a:srgbClr val="006633"/>
                </a:solidFill>
                <a:latin typeface="Garamond"/>
              </a:rPr>
              <a:t>Интернет</a:t>
            </a:r>
            <a:br>
              <a:rPr sz="38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просы: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Интернет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сервис Интерне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сервис служит для доступа 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ниц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сервис служит для обмена электронными сообщениям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й сервис служит для доступа к файлам в файловых архива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сервисы служат для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щ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такое электронная платежная систем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называется сервис позволяющий передавать телефонные разговоры по протокол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ие программы можно использовать для прослушивания Интернет-ради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259-15B6-467F-9E34-C927C023137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Уже знакомые сервисы Интернета…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660033"/>
                </a:solidFill>
                <a:uFillTx/>
                <a:latin typeface="Arial"/>
              </a:rPr>
              <a:t>Интернет</a:t>
            </a:r>
            <a:r>
              <a:rPr b="0" lang="ru-RU" sz="2100" spc="-1" strike="noStrike">
                <a:solidFill>
                  <a:srgbClr val="660033"/>
                </a:solidFill>
                <a:latin typeface="Arial"/>
              </a:rPr>
              <a:t> (от англ. Internet) — глобальная компьютерная сеть, построенная на использовании протоколов TCP/IP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 предыдущих занятиях мы уже рассмотрели следующие сервисы (услуги) Интернет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WWW или Web), еще называют Всемирной паутиной. Служба World Wide Web предназначена для доступа к электронным документам особого рода, которые называются Web-документами или, упрощенно, Web-страниц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Электронная поч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сервис Интернета, позволяющий обмениваться через компьютерную сеть электронными сообщени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FD4-4617-46C8-A9A8-EF1E48E078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TP — передача файлов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ще один широко распространенный сервис Интернет — 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FTP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File Transfer Protocol (букв. «протокол передачи файлов») или просто FTP — сетевой протокол, предназначенный для передачи файлов в компьютерных сетях. Протокол FTP позволяет подключаться к серверам FTP, просматривать содержимое каталогов и загружать файлы с сервера или на сервер, кроме того возможен режим передачи файлов между серверами. FTP является одним из старейших прикладных протокол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сшифровывается эта аббревиатура как протокол передачи файлов, но при рассмотрении FTP как сервиса Интернет имеется в виду не просто протокол, но именно сервис —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доступ к файлам в файловых архивах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9A8-FD77-43BE-ADBC-3ACBA8D507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Telnet — удаленный термина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вис </a:t>
            </a: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Telne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от англ.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Tel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etype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Net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work) позволяет 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ревратить ваш компьютер в удаленный терминал другого компьютер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лово «терминал» означает «концевик», оконечное устройство. В компьютерном делел под терминалом понимают устройство, оснащенное клавиатурой и монитором, при помощи которого можно управлять компьютеро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ервис Telnet позволяет передавать информацию, которая вводится на вашей клавиатуре, другому компьютеру на обработку, а результаты отображать на вашем компьютер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654-50D6-498B-810C-F59A43C051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Сервис IRC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 интерактивным сервисам, служащим общению людей через Интернет, относится 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IRC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— Internet Relay Chat, разговоры через Интерне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а служба была создана в 1988 году финским студентом Ярко Ойкариненом (Jarkko Oikarinen). В Интернет существует сеть серверов IRC. Пользователи присоединяются к одному из каналов — тематических групп и участвуют в разговоре, который ведется не голосом, но текстом. Узлы IRC синхронизованы между собой, так что, подключившись к ближайшему серверу, Вы подключаетесь ко всей сети IR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пользуется IRC в основном для развлечения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1B2A-5D9C-46C7-BB62-920069D9D2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Instant Messaging, ICQ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ервис 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Instant Messaging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англ. «мгновенные сообщения») более известен по названию популярной клиентской программы, которая устанавливается на компьютере пользователя, -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ICQ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ля этого вида коммуникации необходима клиентская программа, так называемый мессенджер (англ. message — сообщение). Он отличается от электронной почты тем, что </a:t>
            </a:r>
            <a:r>
              <a:rPr b="0" lang="ru-RU" sz="1900" spc="-1" strike="noStrike">
                <a:solidFill>
                  <a:srgbClr val="000099"/>
                </a:solidFill>
                <a:latin typeface="Arial"/>
              </a:rPr>
              <a:t>позволяет обмениваться сообщениями в реальном времен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(англ. instant — мгновенно). Большинство программ позволяет видеть, подключены ли в данный момент абоненты, занесенные в список контакт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ак правило, мессенджеры не работают самостоятельно, но подключаются к главному компьютеру данной сети обмена сообщениями, называемому сервером. Поэтому мессенджеры называют ещё клиентскими программами или клиентам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ередаваться могут текстовые сообщения, звуковые сигналы, картинки, видео. Такие программы могут применяться для организации телеконферен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449-302D-4489-B209-B85217087E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Электронная платёжная систем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"/>
              </a:rPr>
              <a:t>Электронная платежная система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- совокупность процедур и связанных с ними компьютерных сетей используемых для проведения финансовых операций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качестве примера можно привести Яндекс.Деньги (http://money.yandex.ru/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5f5f5f"/>
                </a:solidFill>
                <a:latin typeface="Arial"/>
              </a:rPr>
              <a:t>Яндекс.Деньги — электронная платёжная система, реализующая идею электронных денег. Обеспечивает проведение финансовых расчётов между участниками системы (лицами, открывшими счета в системе) в режиме реального времени. Валюта расчётов — российский рубль. Предназначена для обеспечения функционирования систем электронной коммерции. Система предоставляет возможность работать через веб-интерфейс или с использованием программы-кошелька, устанавливаемого на компьютер пользователя. Система Яндекс.Деньги была запущена 24 июля 2002 год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758-476A-4760-9DD4-E4BF3BA078F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Интернет-радио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99"/>
                </a:solidFill>
                <a:uFillTx/>
                <a:latin typeface="Arial"/>
              </a:rPr>
              <a:t>Интернет-радио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веб-радио — интернет-служба, подобная радиовещанию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я качественного и непрерывного звучания нужен достаточно широкий канал, то есть высокая скорость подключения к интернет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866-497A-4CDD-AFD7-11D2125B92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IP-телефония (VoIP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озможность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передачи голосовых сообщений через сеть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с пакетной коммутацией впервые была реализована в 1993 году. Данная технология получила название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VoIP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Voice over IP - «голос через IP»). Одним из частных приложений данной технологии является </a:t>
            </a:r>
            <a:r>
              <a:rPr b="0" lang="ru-RU" sz="1700" spc="-1" strike="noStrike">
                <a:solidFill>
                  <a:srgbClr val="000099"/>
                </a:solidFill>
                <a:latin typeface="Arial"/>
              </a:rPr>
              <a:t>IP-телефония — услуга по передаче телефонных разговоров абонентов по протоколу IP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IP-телефония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- система связи, обеспечивающая передачу речевого сигнала по сети Интернет. Сигнал по каналу связи передается в цифровом виде и, как правило, перед передачей преобразовывается (сжимается) с тем, чтобы удалить избыточность, свойственную человеческой реч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аким образом, Интернет можно использовать для головой связи между абонентами, подобно тому, как используется обычный телефон. Голов, вводимый в компьютер с микрофона, преобразуется в звуковые файлы и передается по сети. На другой стороне происходит обратное преобразование: собеседник слышит голос партнера через наушники или динамики, подключенные к компьютер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роме описанного выше варианта разговора «компьютер-компьютер», возможны варианты «компьютер-телефон» (звонки с компьютера на обычный телефон) и «телефон-телефон» (звонки с обычного телефона на другой обычный телефон через Интернет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B5A-32CF-4BD2-93CB-587770FDFB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>Пользователь</dc:creator>
  <dc:description/>
  <dc:language>en-US</dc:language>
  <cp:lastModifiedBy>bas</cp:lastModifiedBy>
  <dcterms:modified xsi:type="dcterms:W3CDTF">2007-12-10T15:56:32Z</dcterms:modified>
  <cp:revision>37</cp:revision>
  <dc:subject/>
  <dc:title>Слайд 1</dc:title>
</cp:coreProperties>
</file>