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6926-FB79-4992-B0A5-B965C684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09F3-BCF5-44BC-823A-5CF9A62B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A3D5-8E07-4E42-8AC9-C6207DE1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4FD-6893-4DD5-8710-7E8B6E5F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7AB0-3E53-4B5A-84A5-BEDA0D5A3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23EF-2DB9-4B58-8BD2-CE1C08A5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4255-97CE-4A56-904D-DE0B7C1E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77A6-A1B6-4F83-82C3-88665406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7AE9-2BE3-4AEE-8800-E883A32D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7B8E-7774-4CDC-93CA-2011B06B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5A20A-E881-469B-AFC8-9B71B047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705-E812-43F3-84A6-44F79CB7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2E790-38AE-4AAB-A368-F2E76DEF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F9D9-A16F-4AD0-A4AB-02FA69A0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52CD-7DE7-4C25-AA8C-55A350C4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8E46-01C0-4AB4-A2E1-9C5BA059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B0DE-48FE-4D4B-8367-90335BC13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0C0-89F2-4790-B84C-F66FFD55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C10F-1473-4FE8-B6F8-EB736A19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A54-AED2-4A04-BB57-C9335A8B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4243-B67A-4909-B5C5-166AB176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FDC-0B93-462D-AA56-E5BD369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FAE-D81F-4FA7-AF03-F4981C77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67A-E44F-4D28-B977-9BF6C858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15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just">
              <a:spcBef>
                <a:spcPts val="15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just">
              <a:spcBef>
                <a:spcPts val="15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01FB-D485-476D-8A06-FB2FD6A4C2AF}" type="slidenum">
              <a:rPr b="0" lang="ru-RU" sz="14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8262C-2727-4DFE-A94A-5256781A20A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2000" y="790560"/>
            <a:ext cx="247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www.klyaksa.net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790560"/>
            <a:ext cx="33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Информатика в школе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Интернет</a:t>
            </a:r>
            <a:br>
              <a:rPr sz="42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5f5f"/>
                </a:solidFill>
                <a:latin typeface="Arial"/>
              </a:rPr>
              <a:t>Коммуникационные 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льзователи Интерн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 середины 1990 годов Интернет был доступен относительно узкому академическому сообществу, а его наполнение не отличалось богатством и разнообразием. В настоящее время на десятках миллионов компьютеров, подключенных к Интернету, хранится громадный объем информации (сотни миллионов файлов, документов и т. д.) и сотни миллионов людей пользуются информационными услугами глобальной се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аждой локальной или корпоративной сети обычно имеется, по крайней мере, один компьютер, который имеет постоянное подключение к Интернету с помощью линии связи с высокой пропускной способностью (сервер Интернет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2007 году количество пользователей Интернета достигло 1,15 миллиарда человек, в России - 28,7 млн челове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C41F-7278-4F8B-8D6B-B40E5413BD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дежность Интерн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снову, «каркас» Интернета составляют более ста миллионов серверов, постоянно подключенных к сети. К серверам Интернета могут подключаться с помощью локальных сетей или коммутируемых телефонных линий сотни миллионов пользователей се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660033"/>
                </a:solidFill>
                <a:latin typeface="Arial"/>
              </a:rPr>
              <a:t>Надежность функционирования глобальной сети обеспечивает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33"/>
                </a:solidFill>
                <a:latin typeface="Arial"/>
              </a:rPr>
              <a:t>избыточностью линий связи: как правило, серверы имеют более двух линий связи, соединяющих их с Интернетом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33"/>
                </a:solidFill>
                <a:latin typeface="Arial"/>
              </a:rPr>
              <a:t>отсутствием у нее единого центра упра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тернет, грубо говоря, тоже является большою Локальной сетью, использующей протокол TCP/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131-F7C2-4175-B0C3-E899451281A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Адресация в Интерн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Для того чтобы связаться с некоторым компьютером в сети Интернет, Вам надо знать его уникальный Интернет -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уществуют два равноценных формата адресов, которые различаются лишь по своей форме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IP - адре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33"/>
                </a:solidFill>
                <a:latin typeface="Arial"/>
              </a:rPr>
              <a:t>DNS – адр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41D-A809-4E28-8BDE-C3C8B2E8778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P - адрес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современной сети Интернет используется IP (Internet Protocol) четвёртой версии, также известный как IPv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протоколе IP этой версии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IP - адрес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остоит из четырех блоков цифр, разделенных точка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н может иметь такой вид: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84.42.63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блок может содержать число от 0 до 255. Благодаря такой организации можно получить свыше четырех миллиардов возможных адрес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74C-5E5A-4F53-82E0-F259175597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NS - адре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IP - адрес имеет числовой вид, так как его используют в своей работе компьютеры. Но он весьма сложен для запоминания, поэтому была разработана доменная система имен: DNS.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DN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- адрес включает более удобные для пользователя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буквенные сокращ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ые также разделяются точками на отдельные информационные блоки (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домены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DNS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англ. Domain Name System — система доменных имён) — это система, позволяющая преобразовывать символьные имена доменов в IP-адреса (и наоборот) в сетях TCP/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Доме́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определённая зона в системе доменных имён (DNS) Интернета, выделенная какой-либо стране, организации или для иных цел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Вы вводите DNS - адрес, то он сначала направляется в так называемый сервер имен, который преобразует его в 32 - битный IP - адрес для машинного считыва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FDA-6506-4BF5-ACDB-58EFAD4004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оменное им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Доменное им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лужит для адресации узлов сети Интернет и расположенных на них сетевых ресурсов (веб-сайтов, серверов электронной почты, сетевых сервисов)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в удобной для человек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форм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6633"/>
                </a:solidFill>
                <a:latin typeface="Arial"/>
              </a:rPr>
              <a:t>www.klyaksa.ne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оменное имя содержит, как минимум, две части, разделённые точкой. Самая правая часть является доменом верхнего уровня (например, для адрес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www.klyaksa.net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домен верхнего уровня — net). Каждая следующая часть справа налево является поддоменом (например, klyaksa.net — поддомен домена net, а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mytest.klyaksa.net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— домена klyaksa.net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обеспечения уникальности и защиты прав владельцев доменные имена 1-го и 2-го (в отдельных случаях и 3-го) уровней можно использовать только после их регистрации, которая производится уполномоченными на то регистраторам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9BE-3F3F-4F97-A63E-E3CABFF7F1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Домены первого уровн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ервоначально существовало шесть доменов первого уровня, как-то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f5f5f"/>
                </a:solidFill>
                <a:latin typeface="Arial"/>
              </a:rPr>
              <a:t>com</a:t>
            </a:r>
            <a:r>
              <a:rPr b="0" lang="ru-RU" sz="1700" spc="-1" strike="noStrike">
                <a:solidFill>
                  <a:srgbClr val="5f5f5f"/>
                </a:solidFill>
                <a:latin typeface="Arial"/>
              </a:rPr>
              <a:t> - коммерческие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f5f5f"/>
                </a:solidFill>
                <a:latin typeface="Arial"/>
              </a:rPr>
              <a:t>edu</a:t>
            </a:r>
            <a:r>
              <a:rPr b="0" lang="ru-RU" sz="1700" spc="-1" strike="noStrike">
                <a:solidFill>
                  <a:srgbClr val="5f5f5f"/>
                </a:solidFill>
                <a:latin typeface="Arial"/>
              </a:rPr>
              <a:t> - учебные и научные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f5f5f"/>
                </a:solidFill>
                <a:latin typeface="Arial"/>
              </a:rPr>
              <a:t>gov</a:t>
            </a:r>
            <a:r>
              <a:rPr b="0" lang="ru-RU" sz="1700" spc="-1" strike="noStrike">
                <a:solidFill>
                  <a:srgbClr val="5f5f5f"/>
                </a:solidFill>
                <a:latin typeface="Arial"/>
              </a:rPr>
              <a:t> - правительственные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f5f5f"/>
                </a:solidFill>
                <a:latin typeface="Arial"/>
              </a:rPr>
              <a:t>mil</a:t>
            </a:r>
            <a:r>
              <a:rPr b="0" lang="ru-RU" sz="1700" spc="-1" strike="noStrike">
                <a:solidFill>
                  <a:srgbClr val="5f5f5f"/>
                </a:solidFill>
                <a:latin typeface="Arial"/>
              </a:rPr>
              <a:t> - военные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f5f5f"/>
                </a:solidFill>
                <a:latin typeface="Arial"/>
              </a:rPr>
              <a:t>net</a:t>
            </a:r>
            <a:r>
              <a:rPr b="0" lang="ru-RU" sz="1700" spc="-1" strike="noStrike">
                <a:solidFill>
                  <a:srgbClr val="5f5f5f"/>
                </a:solidFill>
                <a:latin typeface="Arial"/>
              </a:rPr>
              <a:t> - сетевые организации разных сетей, телекоммуник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f5f5f"/>
                </a:solidFill>
                <a:latin typeface="Arial"/>
              </a:rPr>
              <a:t>org</a:t>
            </a:r>
            <a:r>
              <a:rPr b="0" lang="ru-RU" sz="1700" spc="-1" strike="noStrike">
                <a:solidFill>
                  <a:srgbClr val="5f5f5f"/>
                </a:solidFill>
                <a:latin typeface="Arial"/>
              </a:rPr>
              <a:t> - другие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 ростом Интернета возникла потребность в увеличении доменов первого уровня. Сейчас доменов первого уровня существует великое множество. Так же регистрация доменов в некоторых зонах (например, com, net, org) стала совершенно свободно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Arial"/>
              </a:rPr>
              <a:t>Все домены первого уровня условно делятся на две группы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Arial"/>
              </a:rPr>
              <a:t>домены общего пользования (com, net, org, info, biz и др.) 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6633"/>
                </a:solidFill>
                <a:latin typeface="Arial"/>
              </a:rPr>
              <a:t>национальные домены, выделяемые для конкретной страны или региона (ru, uk, de и др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2252-2804-44E0-B123-EE5A1CEF35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Рун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усскоязычная часть сети Интернет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называется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Руне́т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Название «Рунет», составленное из доменного имени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u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(которое также можно интерпретировать как первые две буквы слова «русский») и постфикса «нет», что по-английски значит «сеть» (net), вошло в употребление стихийно во второй половине 1990-х годов, его происхождение точно не известно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996600"/>
                </a:solidFill>
                <a:latin typeface="Arial"/>
              </a:rPr>
              <a:t>28 августа 1990 год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рофессиональная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научная сеть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выросшая в недрах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Института атомной энергии им. И. В. Курчатова и ИПК Минавтопром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 объединившая ученых-физиков и программистов, </a:t>
            </a:r>
            <a:r>
              <a:rPr b="0" i="1" lang="ru-RU" sz="1900" spc="-1" strike="noStrike">
                <a:solidFill>
                  <a:srgbClr val="996600"/>
                </a:solidFill>
                <a:latin typeface="Arial"/>
              </a:rPr>
              <a:t>соединилась с мировой сетью Интернет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положив начало современным российским сетям. 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19 сентября 1990 год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был зарегистрирован домен первого уровня </a:t>
            </a:r>
            <a:r>
              <a:rPr b="0" lang="ru-RU" sz="1900" spc="-1" strike="noStrike">
                <a:solidFill>
                  <a:srgbClr val="006633"/>
                </a:solidFill>
                <a:latin typeface="Arial"/>
              </a:rPr>
              <a:t>.su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базе данных Международного информационного центра InterNIC. В результате этого Советский Союз стал виден всему интернетовскому миру. </a:t>
            </a: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7 апреля 1994 год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InterNIC был зарегистрирован уже именно российский домен </a:t>
            </a:r>
            <a:r>
              <a:rPr b="1" lang="ru-RU" sz="1900" spc="-1" strike="noStrike">
                <a:solidFill>
                  <a:srgbClr val="000099"/>
                </a:solidFill>
                <a:latin typeface="Arial"/>
              </a:rPr>
              <a:t>.RU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С этого момента существование Интернета в Российской Федерации было заверено официально на международном уровн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B3D9-CCF1-4CBF-8862-C3DB75FE3A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Услуги сети Интернет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ейчас наиболее популярные услуги (сервисы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нтернета — это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семирная паутина (World Wide Web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Электронная почта и списки рассылк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руппы новостей (в основном, Usenet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Файлообменные сети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Электронные платёжные систем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нтернет-ради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нтернет-телевидение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IP-телефония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ессенжер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FTP-сервер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IRC (реализовано также как веб-чаты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исковые системы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Интернет-реклама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Удаленный термина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F3F0-2B64-4199-9675-17173E4ABC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прос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Интерн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появился Интерн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протокол TCP/I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ему Интернет продолжает нормально функционировать при выходе из строя отдельных серверов или линий связ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адрес у компьютера на вашем рабочем месте? у учител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домен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другие глобальные сети вы знае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CED-CE60-40CC-85E4-83A82792030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зникновение Интерн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1967 году для создания сети передачи данных было решено использовать разбросанные по всей стране компьютеры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ARPA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Advanced Research Project Agency - агентство передовых исследовательских проектов США), соединив их обычными телефонными провода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аботы по созданию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первой глобальной компьютерной сет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получившей название ARPANet (англ. Advanced Research Projects Agency Network), велись быстрыми темпа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1969 году в США была создана компьютерная сеть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ARPAnet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объединяющая компьютерные центры министерства обороны и ряда академических организаций. Эта сеть была предназначена для узкой цели: главным образом для изучения того, как поддерживать связь в случае ядерного нападения и для помощи исследователям в обмене информацией. Затем сеть ARPANET начала активно расти и развиваться, её начали использовать учёные из разных областей наук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 мере роста этой сети так же создавались и развивались многие другие се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1B61-70B4-4C50-8EB8-20FDEDB94F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зникновение Интерн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дохновленные успехом, создатели ARPAnet приступили к разработке программы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Internetting Projec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"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оект объединения сете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"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спех этого проекта привел к следующим результата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-первых, была создана крупнейшая в США сеть internet (со строчной буквы i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-вторых, были опробованы различные варианты взаимодействия этой сети с рядом других сетей СШ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о создало предпосылки для успешной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нтеграции многих сетей в единую мировую сет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Такую "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еть сете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" теперь всюду называют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в отечественных публикациях широко применяется и русскоязычное написание –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. В обиходе иногда говорят Инет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78EE-A927-4A3D-ACA1-BB306B99B7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зникновение Интерн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актически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днем рождения Интернет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как сети, объединяющей глобальные компьютерные сети является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1 января 1983 год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Эта дата знаменательна принятием единых Протоколов Обмена Данными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Transfer Control Protocol / Internet Protocol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данном случае — это, образно говоря,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«язык», используемый компьютерами для обмена данным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ри работе в сети. Чтобы различные компьютеры сети могли взаимодействовать, они должны «разговаривать» на одном «языке», то есть использовать один и тот же протокол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ыдающееся значение этих протоколов заключалось в том, что с их помощью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разнородные сет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олучили возможность производить </a:t>
            </a:r>
            <a:r>
              <a:rPr b="0" i="1" lang="ru-RU" sz="1900" spc="-1" strike="noStrike">
                <a:solidFill>
                  <a:srgbClr val="000000"/>
                </a:solidFill>
                <a:latin typeface="Arial"/>
              </a:rPr>
              <a:t>обмен данными друг с другом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99"/>
                </a:solidFill>
                <a:uFillTx/>
                <a:latin typeface="Arial"/>
              </a:rPr>
              <a:t>Интернет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 (от англ. Internet) — глобальная компьютерная сеть, построенная на использовании протоколов TCP/IP.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E728-8D0C-456C-8292-3B92DCA7B4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ередача информации в Интерн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ача информации в Интернете имеет две главных 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Пакетная передача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 исходном узле сети сообщение разделяется на части-пакеты. Каждый пакет снабжается служебным заголовком, который содержит адрес отправителя, адрес получателя, номер пакета, контрольную сумму и другую служебную информацию. В конечном пункте из полученных пакетов сообщение восстанавлив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5f5f5f"/>
                </a:solidFill>
                <a:latin typeface="Arial"/>
              </a:rPr>
              <a:t>Пакетная передача позволяет передавать по каналу связи одновременно сообщения разных пользователей: никто не простаивает в очереди. Если на линии возникают помехи, заново приходится передавать только поврежденные пакеты, а не все сообщение целиком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0033"/>
                </a:solidFill>
                <a:latin typeface="Arial"/>
              </a:rPr>
              <a:t>Коммутация пакетов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Информационные пакеты в каждом узле передаются следующему доступному узлу по маршруту следования. Прохождением пакета по сети управляет служебная часть пакета — заголов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7401-7B4A-4D5E-A0A8-FBAFC1E001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токол TCP/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токол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является базовым протоколом Интернета. Как следует из названия, он объединяет в себе два протокола —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ротокол </a:t>
            </a:r>
            <a:r>
              <a:rPr b="0" lang="ru-RU" sz="1900" spc="-1" strike="noStrike">
                <a:solidFill>
                  <a:srgbClr val="660033"/>
                </a:solidFill>
                <a:latin typeface="Arial"/>
              </a:rPr>
              <a:t>TCP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от англ. Transmission Control Protocol, протокол управления передачей) </a:t>
            </a:r>
            <a:r>
              <a:rPr b="0" lang="ru-RU" sz="1900" spc="-1" strike="noStrike">
                <a:solidFill>
                  <a:srgbClr val="660033"/>
                </a:solidFill>
                <a:latin typeface="Arial"/>
              </a:rPr>
              <a:t>разбивает информацию на порц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пакеты) и нумерует их, чтобы при получении можно было правильно собрать исходное сообщение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лее протокол 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IP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от англ. Internet Protocol, протокол Интернета) 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снабжает пакеты адресам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тправителя и получателя, контрольной суммой, другой служебной информацией и отправляет образовавшиеся IP-пакеты в се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конечной точке протокол </a:t>
            </a:r>
            <a:r>
              <a:rPr b="0" lang="ru-RU" sz="1900" spc="-1" strike="noStrike">
                <a:solidFill>
                  <a:srgbClr val="660033"/>
                </a:solidFill>
                <a:latin typeface="Arial"/>
              </a:rPr>
              <a:t>TCP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проверяет, все ли части сообщения получены. А так как разные пакеты приходят в конечную точку разными путями, порядок их получения может быть нарушен. После получения всех частей TCP сортирует их в правильном порядке и собирает в единое цело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F29-2F9C-4E7B-9F00-673B63BC2D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токол TCP/I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712960" y="1125360"/>
            <a:ext cx="3681360" cy="573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ABBB-9A17-421C-9DBE-CDEF9F71EB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ользователи Интерн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До середины 1990 годов Интернет был доступен относительно узкому академическому сообществу, а его наполнение не отличалось богатством и разнообразием. В настоящее время на десятках миллионов компьютеров, подключенных к Интернету, хранится громадный объем информации (сотни миллионов файлов, документов и т. д.) и сотни миллионов людей пользуются информационными услугами глобальной се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снову, «каркас» Интернета составляют более ста миллионов серверов, постоянно подключенных к сети. К серверам Интернета могут подключаться с помощью локальных сетей или коммутируемых телефонных линий сотни миллионов пользователей се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9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 каждой локальной или корпоративной сети обычно имеется, по крайней мере, один компьютер, который имеет постоянное подключение к Интернету с помощью линии связи с высокой пропускной способностью (сервер Интернета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560-1712-48FA-B8B1-5072B79DC6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дежность Интерне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Основу, «каркас» Интернета составляют более ста миллионов серверов, постоянно подключенных к сети. К серверам Интернета могут подключаться с помощью локальных сетей или коммутируемых телефонных линий сотни миллионов пользователей се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660033"/>
                </a:solidFill>
                <a:latin typeface="Arial"/>
              </a:rPr>
              <a:t>Надежность функционирования глобальной сети обеспечивает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33"/>
                </a:solidFill>
                <a:latin typeface="Arial"/>
              </a:rPr>
              <a:t>избыточностью линий связи: как правило, серверы имеют более двух линий связи, соединяющих их с Интернетом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0033"/>
                </a:solidFill>
                <a:latin typeface="Arial"/>
              </a:rPr>
              <a:t>отсутствием у нее единого центра упра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нтернет, грубо говоря, тоже является большою Локальной сетью, использующей протокол TCP/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36E9-2B7D-40B2-A580-CEFE96ACDA0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>Пользователь</dc:creator>
  <dc:description/>
  <dc:language>en-US</dc:language>
  <cp:lastModifiedBy>bas</cp:lastModifiedBy>
  <dcterms:modified xsi:type="dcterms:W3CDTF">2007-12-10T14:53:41Z</dcterms:modified>
  <cp:revision>35</cp:revision>
  <dc:subject/>
  <dc:title>Слайд 1</dc:title>
</cp:coreProperties>
</file>