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938D-0AC4-4FBC-BD47-BBBE8CA1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749F-2F1B-4B95-978E-CC91639AA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C3F2-E783-455F-AEDA-797F3FF9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256-CB99-4E2B-8AE8-F9A4CDAA6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7973-9665-4E9A-8907-6230FFFF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6FC0-38A1-4F5D-ADBA-03E3C0513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632F-DDEC-44B6-9177-0F6D73F1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E182-007D-471A-8F16-E3DE9C32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BF1E-37A8-4B5B-A624-9B77B931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0B82-464C-44D6-9783-53578822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8CF6-C1A1-4383-9D3B-45BE3F37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118-7E78-4A91-85EB-ED09E9BE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63B5-3675-4AC4-95EB-FD876A034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355A-963A-40BB-8300-21232E1D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62B3-DC99-4B18-9952-B1A76C93A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7628-5E62-4CF6-8AD1-DF0A8133C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9366-0259-46BE-96E1-422600DCB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90F5-A5B7-437D-8DCE-E2230C42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859-AA8A-4BE2-81E6-4E102AEF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451-13E3-4CBF-B9F1-3F6CB7D4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C47-01ED-4CE3-9602-69B65736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F9C-5196-44E4-9FBD-0B040DD8A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1BB-F6BD-406F-8C88-F0B7D932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AC35-F3C6-4D71-BE30-8E1DAB89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spcBef>
                <a:spcPts val="15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 algn="just">
              <a:spcBef>
                <a:spcPts val="15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 algn="just">
              <a:spcBef>
                <a:spcPts val="15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 algn="just">
              <a:spcBef>
                <a:spcPts val="15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 algn="just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659640" y="30240"/>
            <a:ext cx="1933560" cy="19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9966">
                    <a:alpha val="29000"/>
                  </a:srgbClr>
                </a:solidFill>
                <a:latin typeface="Arial"/>
              </a:rPr>
              <a:t>www.klyaksa.net</a:t>
            </a:r>
            <a:endParaRPr b="0" lang="en-US" sz="2000" spc="1" strike="noStrike">
              <a:ln w="0">
                <a:noFill/>
              </a:ln>
              <a:solidFill>
                <a:srgbClr val="339966">
                  <a:alpha val="29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384760" y="65419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5559-E8F0-4E39-A6A9-53B252C8D37D}" type="slidenum">
              <a:rPr b="0" lang="ru-RU" sz="14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79AB-0E6E-4B6E-A3DE-E33595E1AB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12000" y="790560"/>
            <a:ext cx="24796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www.klyaksa.net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11280" y="790560"/>
            <a:ext cx="331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3240">
                  <a:solidFill>
                    <a:srgbClr val="339966"/>
                  </a:solidFill>
                  <a:custDash>
                    <a:ds d="100000" sp="1000"/>
                  </a:custDash>
                  <a:miter/>
                </a:ln>
                <a:solidFill>
                  <a:srgbClr val="ffffff"/>
                </a:solidFill>
                <a:latin typeface="Arial"/>
              </a:rPr>
              <a:t>Информатика в школе</a:t>
            </a:r>
            <a:endParaRPr b="0" lang="en-US" sz="1800" spc="1" strike="noStrike">
              <a:ln cap="rnd" w="3240">
                <a:solidFill>
                  <a:srgbClr val="339966"/>
                </a:solidFill>
                <a:custDash>
                  <a:ds d="100000" sp="1000"/>
                </a:custDash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9000"/>
            <a:ext cx="79200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Всемирная паутина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мпьютерные телекоммун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опросы и задани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такое Интернет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страниц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такое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йт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такое браузер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браузеры вы знает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е сайты вы посещаете чаще всего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 лучше форум или чат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3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можно разместить свой сайт в Интернет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D177-F58F-4A2B-BEBE-CECEE6C7CC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Просто анекдо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Маленький мальчик приходит к папе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Пап, как пишется "адрес" - с одной "с" или двум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Напиши "URL" и иди спать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E66-AAB1-4C0A-84C1-0256604202A6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World Wide Web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пулярнейшая служба Интернета -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сокращенн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еще называют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семирной паутино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Представление информации в WWW основано на возможностях гипертекстовых ссыло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 u="sng">
                <a:solidFill>
                  <a:srgbClr val="000099"/>
                </a:solidFill>
                <a:uFillTx/>
                <a:latin typeface="Arial"/>
              </a:rPr>
              <a:t>Гипертекст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 - это текст, в котором содержаться ссылки на другие документ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о дает возможность при просмотре некоторого документа легко и быстро переходить к другой связанной с ним по смыслу информации, которая может быть текстом, изображением, звуковым файлом или иметь любой другой вид, принятый в WWW. При этом связанные ссылками документы могут быть разбросаны по всему земному ша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FC69-A2C6-43D6-8802-F5DD7E5D24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Всемирная паути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ногочисленные пересекающиеся связи между документами WWW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компьютерной паутино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охватывают планету - отсюда и название. Таким образом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пропадает зависимость от местонахождения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конкретного докумен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51640" y="404640"/>
            <a:ext cx="1295640" cy="12956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3059280" y="3384720"/>
            <a:ext cx="3496680" cy="3573360"/>
            <a:chOff x="3059280" y="3384720"/>
            <a:chExt cx="3496680" cy="3573360"/>
          </a:xfrm>
        </p:grpSpPr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3346560" y="3600360"/>
              <a:ext cx="3096720" cy="309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5722920" y="338472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5794200" y="518472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3922560" y="6195960"/>
              <a:ext cx="7617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6"/>
            <a:stretch/>
          </p:blipFill>
          <p:spPr>
            <a:xfrm>
              <a:off x="4282920" y="446580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7"/>
            <a:stretch/>
          </p:blipFill>
          <p:spPr>
            <a:xfrm>
              <a:off x="3059280" y="4969080"/>
              <a:ext cx="76176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3201840" y="3529080"/>
              <a:ext cx="76176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34B7-8FCE-4B3D-B792-8BD694923A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b-страницы и браузер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лужба World Wide Web предназначена для доступа к электронным документам особого рода, которые называются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Web-документ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ли, упрощенно, 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Web-страниц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99"/>
                </a:solidFill>
                <a:latin typeface="Arial"/>
              </a:rPr>
              <a:t>Web-страница — это электронный документ, в котором кроме текста содержатся специальные команды форматирования, а также встроенные объекты (рисунки, аудио- и видеоклипы и др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сматривают Web-страницы с помощью специальных программ, называемых браузерами (например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Internet Explorer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Mozilla Firefox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Opera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, так чт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раузер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это не просто клиент WWW, служащий для взаимодействия с удаленными Web-серверами, это еще и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средство просмотр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Web-документов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C50-26BF-4C0D-92A6-2F13651628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Абсолютное и относительное форматировани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 отличие от печатных электронных документов,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Web-страницы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имеют не абсолютное, а </a:t>
            </a:r>
            <a:r>
              <a:rPr b="0" lang="en-US" sz="2600" spc="-1" strike="noStrike">
                <a:solidFill>
                  <a:srgbClr val="006633"/>
                </a:solidFill>
                <a:latin typeface="Arial"/>
              </a:rPr>
              <a:t>относительное форматировани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то есть он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форматируются в момент просмот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в соответствии с тем, на каком экране и с помощью какого браузера их просматриваю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Строго говоря, одна и та же Web-страница при просмотре в разных браузерах может выглядеть по-разному — это зависит от того, как браузер реагирует на команды, которые встроил в Web-страницу ее авто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07E-47A4-43F0-95EA-66F4E9DB84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186920" y="4149360"/>
            <a:ext cx="360360" cy="93492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RL-адрес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У каждого Web-документ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и даже у каждого объекта, встроенного в такой документ)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в Интернете есть свой уникальный адрес —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 называется унифицированным указателем ресурса </a:t>
            </a:r>
            <a:r>
              <a:rPr b="0" lang="ru-RU" sz="2100" spc="-1" strike="noStrike">
                <a:solidFill>
                  <a:srgbClr val="006633"/>
                </a:solidFill>
                <a:latin typeface="Arial"/>
              </a:rPr>
              <a:t>URL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Uniformed Resource Locator) или, сокращенно, URL-адресом. Обратившись по этому адресу, можно получить хранящийся там документ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URL: </a:t>
            </a:r>
            <a:r>
              <a:rPr b="1" lang="ru-RU" sz="2100" spc="-1" strike="noStrike">
                <a:solidFill>
                  <a:srgbClr val="006633"/>
                </a:solidFill>
                <a:latin typeface="Arial"/>
              </a:rPr>
              <a:t>http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://</a:t>
            </a:r>
            <a:r>
              <a:rPr b="1" lang="en-US" sz="2100" spc="-1" strike="noStrike">
                <a:solidFill>
                  <a:srgbClr val="000099"/>
                </a:solidFill>
                <a:latin typeface="Arial"/>
              </a:rPr>
              <a:t>www.k</a:t>
            </a:r>
            <a:r>
              <a:rPr b="1" lang="ru-RU" sz="2100" spc="-1" strike="noStrike">
                <a:solidFill>
                  <a:srgbClr val="000099"/>
                </a:solidFill>
                <a:latin typeface="Arial"/>
              </a:rPr>
              <a:t>lyaksa.net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/htm/exam/answers/images/a23_1.gi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десь приведен URL-адрес рисунка, находящегося на одной из Web-страниц портала www.klyaksa.ne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5084640"/>
            <a:ext cx="2232000" cy="1067400"/>
          </a:xfrm>
          <a:prstGeom prst="rect">
            <a:avLst/>
          </a:prstGeom>
          <a:noFill/>
          <a:ln w="324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токол передачи гипертекста HTTP (HyperText Transfer Protoc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5084640"/>
            <a:ext cx="2232000" cy="1067400"/>
          </a:xfrm>
          <a:prstGeom prst="rect">
            <a:avLst/>
          </a:prstGeom>
          <a:noFill/>
          <a:ln w="324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менное имя компьютера, на котором хранится данный докум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084640"/>
            <a:ext cx="2447640" cy="1067400"/>
          </a:xfrm>
          <a:prstGeom prst="rect">
            <a:avLst/>
          </a:prstGeom>
          <a:noFill/>
          <a:ln w="3240">
            <a:solidFill>
              <a:srgbClr val="cc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уть доступа к файлу, содержащему Web-документ, на указанном компьюте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7120" y="49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92400" y="49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69000" y="4941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2484000" y="4149360"/>
            <a:ext cx="1295640" cy="93492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076720" y="4149360"/>
            <a:ext cx="1440000" cy="934920"/>
          </a:xfrm>
          <a:prstGeom prst="line">
            <a:avLst/>
          </a:prstGeom>
          <a:ln w="9360">
            <a:solidFill>
              <a:srgbClr val="99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6A94-5746-4373-8330-13DF7EC850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eb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-сайт</a:t>
            </a: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и HTML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f5f5f"/>
                </a:solidFill>
                <a:latin typeface="Arial"/>
              </a:rPr>
              <a:t>С каждой гиперссылкой в Сети связан Web-адрес некоторого документа или объекта (файла с рисунком, звукозаписью, видеоклипом и т. 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Совокупность web-документов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, объединенных по какому-либо признаку (адресом сервера, темой, оформлением) называют </a:t>
            </a:r>
            <a:r>
              <a:rPr b="1" lang="ru-RU" sz="2400" spc="-1" strike="noStrike">
                <a:solidFill>
                  <a:srgbClr val="006633"/>
                </a:solidFill>
                <a:latin typeface="Arial"/>
              </a:rPr>
              <a:t>web-сайтом</a:t>
            </a:r>
            <a:r>
              <a:rPr b="0" lang="ru-RU" sz="2400" spc="-1" strike="noStrike">
                <a:solidFill>
                  <a:srgbClr val="006633"/>
                </a:solidFill>
                <a:latin typeface="Arial"/>
              </a:rPr>
              <a:t> (или просто сайтом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ертекстовые страницы записываются на специальном язык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yper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ext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rkup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nguage - язык гипертекстовой разметки). Указания, записанные на HTML, интерпретируются браузер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ычно файл Веб-страницы имеет расширение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ht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883-9351-4F15-B441-FFD22195FA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405080" y="3141720"/>
            <a:ext cx="7417080" cy="3166920"/>
          </a:xfrm>
          <a:prstGeom prst="ellipse">
            <a:avLst/>
          </a:prstGeom>
          <a:solidFill>
            <a:srgbClr val="cc9900">
              <a:alpha val="2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836280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meta http-equiv="Content-Language" content="ru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meta http-equiv="Content-Type" content="text/html; charset=windows-1251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title&gt;Моя страничка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/titl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h1 align="center"&gt;Добрый день!&lt;/h1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p&gt;Меня зовут Саша. Это моя первая web-страничка. Он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писана на языке &lt;b&gt;HTML&lt;/b&gt;.&lt;/p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48360" y="3540240"/>
            <a:ext cx="20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аницу 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раузер отобразит та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201080" cy="2809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18091800">
            <a:off x="5688720" y="3464640"/>
            <a:ext cx="1944720" cy="577800"/>
          </a:xfrm>
          <a:custGeom>
            <a:avLst/>
            <a:gdLst>
              <a:gd name="textAreaLeft" fmla="*/ 328680 w 1944720"/>
              <a:gd name="textAreaRight" fmla="*/ 1421640 w 1944720"/>
              <a:gd name="textAreaTop" fmla="*/ 77400 h 577800"/>
              <a:gd name="textAreaBottom" fmla="*/ 500400 h 57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303" hR="21600" stAng="10800000" swAng="-5400000"/>
                <a:lnTo>
                  <a:pt x="12137" y="21600"/>
                </a:lnTo>
                <a:arcTo wR="7303" hR="21600" stAng="5400000" swAng="-2623214"/>
                <a:lnTo>
                  <a:pt x="21182" y="7200"/>
                </a:lnTo>
                <a:lnTo>
                  <a:pt x="17023" y="0"/>
                </a:lnTo>
                <a:lnTo>
                  <a:pt x="12028" y="7200"/>
                </a:lnTo>
                <a:lnTo>
                  <a:pt x="14188" y="7200"/>
                </a:lnTo>
                <a:arcTo wR="7303" hR="21600" stAng="2776786" swAng="2217458"/>
                <a:lnTo>
                  <a:pt x="9720" y="20383"/>
                </a:lnTo>
                <a:arcTo wR="7303" hR="21600" stAng="5805756" swAng="4994244"/>
                <a:close/>
              </a:path>
              <a:path fill="darkenLess" w="21600" h="21600">
                <a:moveTo>
                  <a:pt x="0" y="0"/>
                </a:moveTo>
                <a:arcTo wR="7303" hR="21600" stAng="10800000" swAng="-5400000"/>
                <a:lnTo>
                  <a:pt x="12137" y="21600"/>
                </a:lnTo>
                <a:arcTo wR="7303" hR="21600" stAng="5400000" swAng="405756"/>
                <a:lnTo>
                  <a:pt x="9720" y="20383"/>
                </a:lnTo>
                <a:arcTo wR="7303" hR="21600" stAng="5805756" swAng="4994244"/>
                <a:close/>
              </a:path>
            </a:pathLst>
          </a:custGeom>
          <a:solidFill>
            <a:srgbClr val="cc99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F25-6E74-4A75-A3CF-98A9F22331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Форумы и чаты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WWW позволяет не только получать информацию, а так же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общатьс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 другими пользователями. Для этого существуют форумы (конференции) и чат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Фору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едлагает набор разделов для обсуждения. Работа форума заключается в создании пользователями тем в разделах и последующим обсуждением внутри этих тем. На форумах обсуждаются различные темы, от развлекательных до узкоспециализированных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Ча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(англ. chat — разговор) — средство общения пользователей по сети в режиме реального времен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E4C3-E429-4783-96A0-7277DBCFED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7T08:01:47Z</dcterms:created>
  <dc:creator>Пользователь</dc:creator>
  <dc:description/>
  <dc:language>en-US</dc:language>
  <cp:lastModifiedBy>bas</cp:lastModifiedBy>
  <dcterms:modified xsi:type="dcterms:W3CDTF">2007-12-10T15:54:15Z</dcterms:modified>
  <cp:revision>28</cp:revision>
  <dc:subject/>
  <dc:title>Слайд 1</dc:title>
</cp:coreProperties>
</file>