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9764-A6B3-4D9E-A749-82DB5520E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549D-20D1-4728-BA4C-BABD88C4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330-6456-4282-8092-D50A06A7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BFB-8E20-446F-94AA-0FBA73D7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73ED1-F3A2-493D-B090-72C6C5CB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2AED-5D94-4E41-845B-76FFA47F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55212-68F7-4AFF-9350-3E71924F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3DB2B-8A58-4C74-A45B-309A597A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9053-7D3F-40E4-87EA-76529354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EABC-B2A2-4B58-9D38-CCCFC53A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FEDB-414A-476C-815E-0FC5BF8E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FB5C-593A-48DC-8C0F-C26FFDB4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BECC-D4AB-47E4-B036-BCB630DE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D215-5A50-40E8-B4FC-21ADCB32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65E3A-E9E0-440B-BDE2-3236270C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B6D5-0910-4498-9129-431E6B2EE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0F59-BE04-439E-879A-B6385769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3CA3-789E-4228-AEA2-D0950461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7AE9-CD43-4850-ABE5-FBDB8FA6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7EAA-8E4A-4130-B114-52330331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CA73-D1A3-4FD1-B4CC-72433B0B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9A4B-5D1C-45A0-9F98-A7B5321E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18D-27DB-4986-BDA4-5790A05D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CFC4-42FF-419A-B916-8D84C119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15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just">
              <a:spcBef>
                <a:spcPts val="15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just">
              <a:spcBef>
                <a:spcPts val="15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just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just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6659640" y="30240"/>
            <a:ext cx="1933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>
                    <a:alpha val="29000"/>
                  </a:srgbClr>
                </a:solidFill>
                <a:latin typeface="Arial"/>
              </a:rPr>
              <a:t>www.klyaksa.net</a:t>
            </a:r>
            <a:endParaRPr b="0" lang="en-US" sz="2000" spc="1" strike="noStrike">
              <a:ln w="0">
                <a:noFill/>
              </a:ln>
              <a:solidFill>
                <a:srgbClr val="339966">
                  <a:alpha val="2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94BAA-06B4-4AF2-802B-C34CC04CB46C}" type="slidenum">
              <a:rPr b="0" lang="ru-RU" sz="14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B818-634B-4C93-A296-8D433F10DA5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12000" y="790560"/>
            <a:ext cx="2479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"/>
              </a:rPr>
              <a:t>www.klyaksa.net</a:t>
            </a:r>
            <a:endParaRPr b="0" lang="en-US" sz="18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1280" y="790560"/>
            <a:ext cx="331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"/>
              </a:rPr>
              <a:t>Информатика в школе</a:t>
            </a:r>
            <a:endParaRPr b="0" lang="en-US" sz="18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89000"/>
            <a:ext cx="79200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Электронная почта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ьютерные телекоммун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чтовые клиент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стейший почтовый клиент — программ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Microsoft Outlook Expres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Она входит в стандартный пакет Windows (начиная с Windows 98) и потому есть в наличии на каждом компьютере, работающем в этой операционной системе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 же широкой популярностью у пользователей пользуются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The Bat!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бесплатный почтовый клиен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Mozilla Thunderbird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187280" y="4724280"/>
            <a:ext cx="2016360" cy="1311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940360" y="4724280"/>
            <a:ext cx="1008000" cy="1008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437080" y="5589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Mozilla Thunderbi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50C1-4558-4ACD-9D9D-947292D191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отокол электронной почт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4d4d4d"/>
                </a:solidFill>
                <a:latin typeface="Arial"/>
              </a:rPr>
              <a:t>У каждой сетевой службы должен быть свой протокол. Он определяет порядок взаимодействия клиентской и серверной програм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отправки на сервер и для пересылки между серверами используют протокол, который называется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SMTP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Simple Mail Transfer Protocol — простейший протокол передачи сообщений). Он не требует идентификации личнос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получения поступившей почты используется протокол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ОРЗ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Post Office Protocol 3 — протокол почтового отделения, версия 3). Он требует идентификации личности, то есть должно быть предъявлено регистрационное имя (Login) и пароль (Password), который подтверждает правомочность использования имен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d4d4d"/>
                </a:solidFill>
                <a:latin typeface="Arial"/>
              </a:rPr>
              <a:t>Протоколы SMTP и POP3 являются прикладными протоколами, т.е. они надстроены над базовыми протоколами Интернета TCP/I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1DE-C0BA-4414-85D6-6696E75CBB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Спам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 удобство, доступность и практическую бесплатность электронной почты, равно как и за пользование другими «бесплатными» ресурсами Интернета, вам неизбежно придется платить, тратя огромные усилия на борьбу с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екламными письм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торые будут каждый день сваливаться в ваш почтовый ящи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бавно, что свое название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чтовый мусор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унаследовал... от обычных мясных консервов компании Hormel Foods, выпускавшихся в США еще с 20-х гг. прошлого столетия! В послевоенные годы компании пришлось «стимулировать» спрос с помощью крикливой рекламы: «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па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» царил везде — на страницах газет, на экранах телевизоров, не говоря уже о специализированных кулинарных книгах, посвященных блюдам из тушенки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6367-40AF-4969-BCDF-87D4E228BE5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опрос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то такое электронная почт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то такое почтовый клиент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то такое почтовый сервер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записывается почтовый адрес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то такое спам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то нужно делать со спамовыми письмам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но ли зашифровать сообщение электронной почты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56720" y="69228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B70D-D076-4A33-ABC2-F61050BE539B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708360" y="4653000"/>
            <a:ext cx="2232000" cy="647640"/>
          </a:xfrm>
          <a:prstGeom prst="leftRightArrow">
            <a:avLst>
              <a:gd name="adj1" fmla="val 50000"/>
              <a:gd name="adj2" fmla="val 68608"/>
            </a:avLst>
          </a:prstGeom>
          <a:solidFill>
            <a:srgbClr val="cc99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Что такое почта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чта - это традиционное средство связи, позволяющее обмениваться информацией, по крайней мере, двум абонента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того, чтобы этот обмен состоялся, необходимо написать послание и, указав адрес, опустить в почтовый ящик, откуда письмо неминуемо попадет на почтовый узел. Если указанный адрес соответствует общепринятым стандартам, то через некоторое время почтальон положит его в почтовый ящик адресата. Далее абонент вскроет послание, и - обмен информацией состоял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720" y="479736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116000" y="525924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596360" y="5157720"/>
            <a:ext cx="761760" cy="76212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2195640" y="4292640"/>
            <a:ext cx="1512720" cy="1512720"/>
            <a:chOff x="2195640" y="4292640"/>
            <a:chExt cx="1512720" cy="1512720"/>
          </a:xfrm>
        </p:grpSpPr>
        <p:pic>
          <p:nvPicPr>
            <p:cNvPr id="100" name="" descr=""/>
            <p:cNvPicPr/>
            <p:nvPr/>
          </p:nvPicPr>
          <p:blipFill>
            <a:blip r:embed="rId4"/>
            <a:stretch/>
          </p:blipFill>
          <p:spPr>
            <a:xfrm>
              <a:off x="2195640" y="4292640"/>
              <a:ext cx="15127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484360" y="472428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ч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195640" y="4292640"/>
            <a:ext cx="1512720" cy="1512720"/>
            <a:chOff x="2195640" y="4292640"/>
            <a:chExt cx="1512720" cy="1512720"/>
          </a:xfrm>
        </p:grpSpPr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2195640" y="4292640"/>
              <a:ext cx="1512720" cy="15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484360" y="472428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ч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940360" y="4437000"/>
            <a:ext cx="1303560" cy="1303560"/>
            <a:chOff x="5940360" y="4437000"/>
            <a:chExt cx="1303560" cy="1303560"/>
          </a:xfrm>
        </p:grpSpPr>
        <p:pic>
          <p:nvPicPr>
            <p:cNvPr id="106" name="" descr=""/>
            <p:cNvPicPr/>
            <p:nvPr/>
          </p:nvPicPr>
          <p:blipFill>
            <a:blip r:embed="rId6"/>
            <a:stretch/>
          </p:blipFill>
          <p:spPr>
            <a:xfrm>
              <a:off x="5940360" y="4437000"/>
              <a:ext cx="1303560" cy="13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123240" y="47750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оч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 rot="19959600">
            <a:off x="1908000" y="5300280"/>
            <a:ext cx="433440" cy="289080"/>
          </a:xfrm>
          <a:prstGeom prst="leftRightArrow">
            <a:avLst>
              <a:gd name="adj1" fmla="val 50000"/>
              <a:gd name="adj2" fmla="val 29848"/>
            </a:avLst>
          </a:prstGeom>
          <a:solidFill>
            <a:srgbClr val="ff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1293600">
            <a:off x="7235640" y="5157360"/>
            <a:ext cx="433080" cy="289080"/>
          </a:xfrm>
          <a:prstGeom prst="leftRightArrow">
            <a:avLst>
              <a:gd name="adj1" fmla="val 50000"/>
              <a:gd name="adj2" fmla="val 29824"/>
            </a:avLst>
          </a:prstGeom>
          <a:solidFill>
            <a:srgbClr val="00ff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7B8-DE8C-4158-A23F-83F2562560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Электронная поч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Электронная почта является исторически первой информационной услугой компьютерных сетей и не требует обязательного наличия высокоскоростных и качественных линий связи. Когда-то именно ею ограничивался набор услуг российской сет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Arial"/>
              </a:rPr>
              <a:t>Электронная почта — сервис Интернета, позволяющий обмениваться через компьютерную сеть электронными сообщения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сновная особенность электронной почты заключается в том, что информация отправляется получателю не напрямую, а через промежуточное звено — электронный почтовый ящик, который представляет собой место на сервере, где сообщение хранится, пока его не запросит получатель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7D94-EFF5-4D9B-9CBD-E65C551506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реимущества электронной почт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Скорость пересылки сообщений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Электронное письмо может содержать не только текст, но и вложенные файлы (программы, графику, звук…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ростота и дешевиз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Возможность шифровки писе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Возможность автоматической обработки писем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Возможность массовых рассыло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Возможность пересылки сообщения на другие адрес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013-D18B-4233-9FD4-9512592967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Адрес электронной почт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дрес электронной почты записывается по определенной форме и состоит из двух частей: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имя_пользователя@имя_серве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Имя_пользовател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чаще всего, имеет произвольный характер и задается самим пользователем;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имя_сервер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жестко связано с выбором пользователем сервера, на котором он разместил свой почтовый ящи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f5f5f"/>
                </a:solidFill>
                <a:latin typeface="Arial"/>
              </a:rPr>
              <a:t>Пример, ivanov@kyaksa.net, petrov@yandex.ru, sidorov@mail.ru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0EF-3A4E-4E32-ACCC-B4F97E8F79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Адрес электронной почт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е электронные адреса условно можно разделить 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овайдерски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почтовый ящик на сервере провайдера — организации-поставщика сетевых услуг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рпоративны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ящик на сервере по месту работы)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коммерчески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ящик на сервере платной почтовой службы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есплатны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ящик на сервере бесплатной почтовой службы, например, mail.ru, yandex.ru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0943-B4AF-4752-987A-FAF5F6A509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О для работы с электронной почтой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ботать с электронной почтой можно при помощи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почтовой программ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почтового клиента), установленной на компьютере пользователя или при помощи браузера, с помощью web-интерфейс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6633"/>
                </a:solidFill>
                <a:uFillTx/>
                <a:latin typeface="Arial"/>
              </a:rPr>
              <a:t>Почтовая программа</a:t>
            </a: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 (клиент электронной почты, почтовый клиент) — программное обеспечение, устанавливаемое на компьютере пользователя, предназначенное для получения, написания, отправки, хранения и обработки сообщений электронной почты пользовател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истеме пересылки электронной почты еще необходим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почтовый сервер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сервер электронной почты). 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Почтовый сервер - это компьютерная программа, которая передаёт сообщения от одного компьютера к другому. Почтовые серверы работают на узловых компьютерах Интернет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а почтовые клиенты должны быть у каждого пользователя e-mai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2F5E-CF51-486D-A702-BDD49D4D50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ПО для работы с электронной почтой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55640" y="1552680"/>
            <a:ext cx="7632720" cy="439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A8B4-BAAD-4B75-A267-EC02E2195C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Функционирование электронной почт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4723920"/>
            <a:ext cx="8291520" cy="14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Электронная почта основана на принципе эстафеты. С помощью почтовой программы создается почтовое сообщение на локальном компьютере. Затем, после подключения к Интернет, оно передается на почтовый сервер, а далее движется по цепочке почтовых серверов, пока не достигнет сервера адресата. Как только адресат подключится к своему почтовому серверу он автоматически получит все, что накопилось в его «почтовом ящике»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16360" cy="341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500D-F090-4155-8977-A0D87B63F4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8:01:47Z</dcterms:created>
  <dc:creator>Пользователь</dc:creator>
  <dc:description/>
  <dc:language>en-US</dc:language>
  <cp:lastModifiedBy>bas</cp:lastModifiedBy>
  <dcterms:modified xsi:type="dcterms:W3CDTF">2007-12-10T14:06:27Z</dcterms:modified>
  <cp:revision>17</cp:revision>
  <dc:subject/>
  <dc:title>Слайд 1</dc:title>
</cp:coreProperties>
</file>