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5042-741A-4584-879E-2274AA30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A244-4960-4914-A9DD-AA4722E8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6E1C-2BF8-48E3-93E0-0598FE15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DD84-D2F1-40B7-9DDB-B7A590A6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7321-6F61-420A-837B-2E5CC1DE6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2ADD1-2FDB-460C-BCA3-FD548529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DFE9-7A92-436A-B9B5-8196FD01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8A1B-A2FF-495D-BF8A-C8692475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EB2A-C93B-4BCD-83E7-B00DBAA5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2600-D04A-4871-B199-824E97A6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27D86-E479-444D-95B3-1114FCD1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D8EA-B2FC-4808-BD53-20D83C46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F3FD0-558A-4989-9907-EA4F63BD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A542-A8C9-4011-8F8A-CD1AE9AC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49B7-4C3B-43E7-9718-97B0AB102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DDAB-71B4-48D5-BA7C-CBE09D403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40BF-A599-4DB1-8335-9D307C9E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BCA3-C8B0-4213-AC94-47D1D967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80B-2210-42F1-BA6B-F1CCE125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33E6-72B1-4364-ACD4-915ACED6E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694B-6B1C-4579-B68C-A4B983F2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A8F4-C2CB-49D6-AEE5-703AB0AF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9181-D70D-4A9A-A5F2-ECBA472B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3C26-8402-4D80-923E-3DD9A796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0F4D-63A8-4336-A4DB-BF6742CE8E0B}" type="slidenum">
              <a:rPr b="0" lang="ru-RU" sz="14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1500-6905-4798-A614-EF3428CA38B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Компьютерные сети</a:t>
            </a:r>
            <a:br>
              <a:rPr sz="42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егиональные компьютерные се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окальные сети не позволяют обеспечить совместный доступ к информации пользователям, находящимся, например, в различных частях города. На помощь приходят региональные сети, объединяющие компьютеры в пределах одного региона (города, страны, континента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99"/>
                </a:solidFill>
                <a:uFillTx/>
                <a:latin typeface="Arial"/>
              </a:rPr>
              <a:t>Региональная сеть</a:t>
            </a:r>
            <a:r>
              <a:rPr b="0" lang="en-US" sz="3000" spc="-1" strike="noStrike">
                <a:solidFill>
                  <a:srgbClr val="000099"/>
                </a:solidFill>
                <a:latin typeface="Arial"/>
              </a:rPr>
              <a:t> – компьютерная сеть в пределах одного регио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733D-FE01-400E-A2C0-E1B5C3E9E04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Глобальная вычислительная се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 u="sng">
                <a:solidFill>
                  <a:srgbClr val="000099"/>
                </a:solidFill>
                <a:uFillTx/>
                <a:latin typeface="Arial"/>
              </a:rPr>
              <a:t>Глобальная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"/>
              </a:rPr>
              <a:t> вычислительная </a:t>
            </a:r>
            <a:r>
              <a:rPr b="1" lang="ru-RU" sz="2100" spc="-1" strike="noStrike" u="sng">
                <a:solidFill>
                  <a:srgbClr val="000099"/>
                </a:solidFill>
                <a:uFillTx/>
                <a:latin typeface="Arial"/>
              </a:rPr>
              <a:t>сеть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ГВС (англ. Wide Area Network, WAN) представляет собой компьютерную сеть, охватывающую большие территории и включающую в себя десятки и сотни тысяч компьютер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ВС служат для объединения разрозненных сетей так, чтобы пользователи и компьютеры, где бы они ни находились, могли взаимодействовать со всеми остальными участниками глобальной сети. Лучшим примером ГВС является Интернет, но существуют и другие се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лобальную компьютерную сеть еще называют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елекоммуникационной сетью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а процесс обмена информацией по такой сети называют телекоммуникацией (от греч. «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tele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» -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далек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лат. «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comunicato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» -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связ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7F9E-AA6B-4BB1-BB00-486C4AF9D4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опология се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Общая схема соединения компьютеров в сети называется </a:t>
            </a: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"/>
              </a:rPr>
              <a:t>топологией сети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уществует множество способов соединения сетевых устройств, из них можно выделить четыре базовых топологии: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шин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кольцо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звезд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ячеистая тополог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стальные способы являются комбинациями базов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кальные сети чаще всего могут иметь топологию «шина» или «звезда». В первом случае все компьютеры подключены к одному общему кабелю (шине), во втором - имеется специальное центральное устройство (хаб), от которого идут «лучи» к каждому компьютеру, т.е. каждый компьютер подключен к своему кабел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D521-C4A6-499B-B39F-6233348732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опология сети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808000" cy="151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5940360" y="692280"/>
            <a:ext cx="2521080" cy="21571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5581800" y="4011480"/>
            <a:ext cx="2519280" cy="1793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403280" y="981000"/>
            <a:ext cx="1368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ши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92720" y="907920"/>
            <a:ext cx="1368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звезд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3500280"/>
            <a:ext cx="13687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кольц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1042920" y="3664080"/>
            <a:ext cx="2305080" cy="207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042920" y="551808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ячеистая тополог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23B5-5F99-4ACC-9A8E-CE15DB9424E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Топология сет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6000" y="1484280"/>
            <a:ext cx="757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Топология типа Ши́на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едставляет собой общий кабель (называемый шина или магистраль), к которому подсоединены все рабочие стан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Звезда́ — базовая тополог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мпьютерной сети, в которой все компьютеры сети присоединены к центральному узлу (обычно сетевой концентратор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Кольцо́ — базовая тополог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мпьютерной сети, в которой рабочие станции подключены последовательно друг к другу, образуя замкнутую сет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Ячеистая тополог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— соединяет каждую рабочую станцию сети со всеми другими рабочими станциями этой же сети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4920" y="1628640"/>
            <a:ext cx="1224000" cy="6588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108000" y="2708280"/>
            <a:ext cx="936720" cy="801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865440" cy="7761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38160" y="4149720"/>
            <a:ext cx="1077840" cy="76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A31-F91A-43D1-A6E6-E665A606A24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прос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акое компьютерная сеть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ем вызвано создание компьютерных сете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компьютерные сети бываю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е устройство необходимо для подключения компьютера в школьную локальную сет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то такое топология сети? Какая топология сети у нас в классе? в школ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очему в беспроводных технологиях сети на основе ячеистой технологии встречаются чаще, чем сетях на проводной основе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4EE-7A4B-448A-8186-21FE7AC84758}" type="slidenum">
              <a:t>15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настоящее время персональные компьютеры, находящиеся чуть ли не в каждом доме и практически в каждой организации, достигли огромных мощностей в переработке информации. Но вся эта мощь в наше время сводится на нет без наличия современных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редств коммуникаци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то есть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связ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 сегодня каждый день множество людей открывает для себя существование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глобальных компьютерных сете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объединяющих  компьютеры  во всем мир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едином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информационном пространств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имя которому –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244000" y="285264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FB5-D91E-4071-A0D0-877F52A18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омпьютерная се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000099"/>
                </a:solidFill>
                <a:uFillTx/>
                <a:latin typeface="Arial"/>
              </a:rPr>
              <a:t>Компьютерная сеть</a:t>
            </a: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 — система двух или более компьютеров, связанных каналами передачи информации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Для передачи информации могут быть использованы различные физические явления, как правило — различные виды электрических сигналов или электромагнитного излуч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оздание компьютерных сетей вызвано практической потребностью пользователей удаленных друг от друга компьютеров в одной и той же информации. Сети предоставляют пользователям возможность не только быстрого обмена информацией, но и совместной работы на принтерах и других периферийных устройствах, и даже одновременной обработки документ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07C-8AC7-4272-A428-C3DAEF9E64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Классификация сетей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ногообразие компьютерных сетей можно классифицировать по группе признаков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рриториальная распространенность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едомственная принадлежность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корость передачи информации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ип среды передачи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41EB-BD37-4272-8975-74888648F5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лассификация компьютерных се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252360" y="2997360"/>
            <a:ext cx="8640720" cy="2952720"/>
            <a:chOff x="252360" y="2997360"/>
            <a:chExt cx="8640720" cy="2952720"/>
          </a:xfrm>
        </p:grpSpPr>
        <p:sp>
          <p:nvSpPr>
            <p:cNvPr id="101" name=""/>
            <p:cNvSpPr/>
            <p:nvPr/>
          </p:nvSpPr>
          <p:spPr>
            <a:xfrm>
              <a:off x="2556000" y="2997360"/>
              <a:ext cx="3887640" cy="1081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КОМПЬЮТЕРНЫЕ С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2360" y="4942080"/>
              <a:ext cx="259236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локаль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60720" y="4942080"/>
              <a:ext cx="295272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региональ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29440" y="4942080"/>
              <a:ext cx="266364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глобаль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79280" y="4078440"/>
              <a:ext cx="2521080" cy="792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0720" y="4078440"/>
              <a:ext cx="0" cy="792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00720" y="4078440"/>
              <a:ext cx="2808000" cy="79200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539640" y="198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По территориальной распространенност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48B4-C113-420D-ACEF-056E2AF87AF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лассификация компьютерных се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413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По принадлеж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08000" y="1989000"/>
            <a:ext cx="8928000" cy="4680000"/>
            <a:chOff x="108000" y="1989000"/>
            <a:chExt cx="8928000" cy="4680000"/>
          </a:xfrm>
        </p:grpSpPr>
        <p:sp>
          <p:nvSpPr>
            <p:cNvPr id="112" name=""/>
            <p:cNvSpPr/>
            <p:nvPr/>
          </p:nvSpPr>
          <p:spPr>
            <a:xfrm>
              <a:off x="4500720" y="5661000"/>
              <a:ext cx="287964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ведомствен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56360" y="3429000"/>
              <a:ext cx="287964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государствен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00" y="3357720"/>
              <a:ext cx="287964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семей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60360" y="5661000"/>
              <a:ext cx="288000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орпоратив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56360" y="4581360"/>
              <a:ext cx="2879640" cy="100836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международ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00" y="4508640"/>
              <a:ext cx="287964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домо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843280" y="3068640"/>
              <a:ext cx="1728720" cy="43164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00720" y="3068640"/>
              <a:ext cx="1800000" cy="43164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3068640"/>
              <a:ext cx="1655640" cy="172872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843280" y="3068640"/>
              <a:ext cx="1728720" cy="1800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0" y="3068640"/>
              <a:ext cx="1224000" cy="266544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3492000" y="2997360"/>
              <a:ext cx="1079640" cy="273672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6000" y="1989000"/>
              <a:ext cx="3887640" cy="1081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КОМПЬЮТЕРНЫЕ С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9075-CB73-4A35-B4B1-79ABF7BBD2B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лассификация компьютерных се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1280" y="2997360"/>
            <a:ext cx="8999640" cy="2952720"/>
            <a:chOff x="71280" y="2997360"/>
            <a:chExt cx="8999640" cy="2952720"/>
          </a:xfrm>
        </p:grpSpPr>
        <p:sp>
          <p:nvSpPr>
            <p:cNvPr id="127" name=""/>
            <p:cNvSpPr/>
            <p:nvPr/>
          </p:nvSpPr>
          <p:spPr>
            <a:xfrm>
              <a:off x="2556000" y="2997360"/>
              <a:ext cx="3887640" cy="1081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КОМПЬЮТЕРНЫЕ С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1280" y="4942080"/>
              <a:ext cx="284508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низкоскоростны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до 10 Мбит/с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60720" y="4942080"/>
              <a:ext cx="295272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среднескоростные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до 100 Мбит/с)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56360" y="4942080"/>
              <a:ext cx="291456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Times New Roman"/>
                </a:rPr>
                <a:t>высокоскорост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свыше 100 Мбит/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979280" y="4078440"/>
              <a:ext cx="2521080" cy="792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00720" y="4078440"/>
              <a:ext cx="0" cy="792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00720" y="4078440"/>
              <a:ext cx="2808000" cy="792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39640" y="198900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По скорости передач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E354-5568-4A5D-9FE2-4CE4A6E0962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Классификация компьютерных сетей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1125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Times New Roman"/>
              </a:rPr>
              <a:t>По типу среды пере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8000" y="1917720"/>
            <a:ext cx="8886600" cy="4535640"/>
            <a:chOff x="108000" y="1917720"/>
            <a:chExt cx="8886600" cy="4535640"/>
          </a:xfrm>
        </p:grpSpPr>
        <p:sp>
          <p:nvSpPr>
            <p:cNvPr id="138" name=""/>
            <p:cNvSpPr/>
            <p:nvPr/>
          </p:nvSpPr>
          <p:spPr>
            <a:xfrm>
              <a:off x="108000" y="4292640"/>
              <a:ext cx="287964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коаксиаль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32000" y="5445000"/>
              <a:ext cx="2880000" cy="100836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на витой паре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113520" y="4292640"/>
              <a:ext cx="287964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птоволоконные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6440" y="5445000"/>
              <a:ext cx="2879640" cy="100836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по радиоканалам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(Wi-Fi, BlueToot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3520" y="5445000"/>
              <a:ext cx="2879640" cy="100836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в инфракрасном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диапазоне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43280" y="2781360"/>
              <a:ext cx="30240" cy="2808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43280" y="2852640"/>
              <a:ext cx="1470240" cy="273708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643280" y="2852640"/>
              <a:ext cx="1470240" cy="187164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2944440" y="2781360"/>
              <a:ext cx="1771560" cy="2808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016080" y="2924280"/>
              <a:ext cx="1627200" cy="187308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8000" y="3139920"/>
              <a:ext cx="2879640" cy="100836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телефон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14960" y="3068640"/>
              <a:ext cx="2879640" cy="1008000"/>
            </a:xfrm>
            <a:prstGeom prst="rect">
              <a:avLst/>
            </a:prstGeom>
            <a:solidFill>
              <a:srgbClr val="e2f3fe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бытовые </a:t>
              </a:r>
              <a:br>
                <a:rPr sz="2800"/>
              </a:b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электрически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3280" y="2852640"/>
              <a:ext cx="1513080" cy="50508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2987280" y="2852640"/>
              <a:ext cx="1655640" cy="576360"/>
            </a:xfrm>
            <a:prstGeom prst="line">
              <a:avLst/>
            </a:prstGeom>
            <a:ln w="9360">
              <a:solidFill>
                <a:srgbClr val="3b812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35280" y="1917720"/>
              <a:ext cx="3887640" cy="1081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5f5f5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КОМПЬЮТЕРНЫЕ СЕ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E06-84FF-446D-B718-0347F798257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Локальная вычислительная сет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Локальная сеть объединяет компьютеры, установленные в одном помещении (например, школьный компьютерный класс, состоящий из 8—12 компьютеров) или в одном здании (например, в здании школы могут быть объединены в локальную сеть несколько десятков компьютеров, установленных в различных предметных кабинетах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"/>
              </a:rPr>
              <a:t>Локальная вычислительная сеть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, ЛВС ( англ. Local Area Network, LAN ) — компьютерная сеть, покрывающая относительно небольшую территорию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аждый компьютер, подключенный к локальной сети, должен иметь специальную плату (сетевой адаптер). Между собой компьютеры (сетевые адаптеры) соединяются, например, с помощью каб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0C6-95D0-443C-85FE-23EA8A48C2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bas</cp:lastModifiedBy>
  <dcterms:modified xsi:type="dcterms:W3CDTF">2007-12-10T14:54:36Z</dcterms:modified>
  <cp:revision>27</cp:revision>
  <dc:subject/>
  <dc:title>Слайд 1</dc:title>
</cp:coreProperties>
</file>