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9D9C-4F38-40E3-9A84-34CD07456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08E1-1E87-424A-A4C6-A3B7AF91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812F-D9F6-4D34-985F-0DB63E9C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411-AFA7-41AB-90E8-68F0C322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F3714-153C-4538-AD71-E79D8554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45FAC-9BC4-48C4-A413-4CEA66E8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887-2B0F-4626-937D-5667772C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B3F8-D253-4D58-99BD-7E48888F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D045-DBAC-4592-A9EF-B4D2761B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79CA-3293-4D88-AE6A-CFF26064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2EC4-80C6-4FBC-B12C-54A26DD1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AC7-105F-41AA-A0EA-C2FA539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10E3-EC0E-45B2-A64F-AB7FC346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1B67-4C96-4DCD-8265-5A4BD175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C2EE-9584-4556-A420-E58186D0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3BD2E-3477-414C-900C-3AE493770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D372-D97E-45D9-AEA0-CFB33D2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DC1E-C5F7-47B7-BEDF-1A6AA12B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091-0D6B-4DCE-A903-D3954A70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C86E-5EC2-4D2C-BD78-750899AC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4DA-9026-4CB4-ADEC-429A89CD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8591-1404-4243-8C97-D9E423AA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A10-EEB7-44B4-8CCF-23775682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DFDD-8C47-4DC0-8AB5-B807B04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640E-F17A-4C44-9BD0-A7CD6D0238D5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64C5-449E-4E91-BDC7-2012C6D812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Поиск информации в Интернет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 (web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ак работает поисковой индекс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исковые индексы автоматически, при помощи специальных программ (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веб-паук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), сканируют страницы Интернета и индексируют их, то есть заносят в свою огромную базу данны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99"/>
                </a:solidFill>
                <a:uFillTx/>
                <a:latin typeface="Arial"/>
              </a:rPr>
              <a:t>Поиско́вый робот («веб-пау́к»)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— программа, являющаяся составной частью поисковой системы и предназначенная для обхода страниц Интернета с целью занесения информации о них (ключевые слова) в базу поискови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 своей сути паук больше всего напоминает обычный браузер. Он сканирует содержимое страницы, забрасывает его на сервер поисковой машины, которой принадлежит и отправляется по ссылкам на следующие страницы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ответ на запрос, где найти нужную информацию, поисковый сервер возвращает список гиперссылок, ведущих web-страницам, на которых нужная информация имеется или упоминается. Обширность списка может быть любой, в зависимости от содержания запроса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DBBA-6038-4538-A023-CD3F271C97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17480" y="374760"/>
            <a:ext cx="7526520" cy="56466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68360" y="630864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декс Яндекс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: поиск по запросу "Информатика и ИКТ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7B3F-C1A8-479B-8556-E2352E485B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http://www.yandex.ru/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99"/>
                </a:solidFill>
                <a:latin typeface="Arial"/>
              </a:rPr>
              <a:t>Яндекс — российская система поиска в Сети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Сайт компании, Yandex.ru, был открыт 23 сентября 1997 года. Головной офис компании находится в Москве. У компании есть офисы в Санкт-Петербурге, Екатеринбурге, Одессе и Киеве. Количество сотрудников превышает 700 человек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лово «Яндекс» (состоящее из буквы «Я» и части слова index; обыгран тот факт, что русское местоимение «Я» соответствует английскому «I») придумал Илья Сегалович, один из основателей Яндекса, в настоящий момент занимающий должность технического директора компан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6633"/>
                </a:solidFill>
                <a:latin typeface="Arial"/>
              </a:rPr>
              <a:t>Поиск Яндекса позволяет искать по Рунету документы на русском, украинском, белорусском, румынском, английском, немецком и французском языках с учётом морфологии русского и английского языков и близости слов в предложении. Отличительная особенность Яндекса — возможность точной настройки поискового запроса. Это реализовано за счёт гибкого языка запросов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умолчанию Яндекс выводит по 10 ссылок на каждой странице выдачи результатов, в настройках результатов поиска можно увеличить размер страницы до 20, 30 или 50 найденных документ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ремя от времени алгоритмы Яндекса, отвечающие за релевантность выдачи, меняются, что приводит к изменениям в результатах поисковых запросов. В частности, эти изменения направлены против поискового спама, приводящего к нерелевантным результатам по некоторым запроса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BBF0-DE2C-453D-9C80-3ACE9A3C43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http://www.google.ru/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Лидер поисковых машин Интернета, Google занимает более 70 % мирового рынка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Cейчас регистрирует ежедневно около 50 млн поисковых запросов и индексирует более 8 млрд веб-страниц. Google может находить информацию на 115 языках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f5f5f"/>
                </a:solidFill>
                <a:latin typeface="Arial"/>
              </a:rPr>
              <a:t>По одной из версий, Google — искажённое написание английского слова googol. "Googol (гугол)" – это математический термин, обозначающий единицу со 100 нулями. Этот термин был придуман Милтоном Сироттой, племянником американского математика Эдварда Каснера, и впервые описан в книге Каснера и Джеймса Ньюмена "Математика и воображение" (Mathematics and the Imagination). Использование этого термина компанией Google отражает задачу организовать огромные объемы информации в Интерн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Интерфейс Google содержит довольно сложный язык запросов, позволяющий ограничить область поиска отдельными доменами, языками, типами файлов и т. д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D33-00BB-47DC-8029-B4EF9F26F6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http://www.rambler.ru/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Rambler Media Group — интернет-холдинг, включающий в качестве сервисов поисковую систему, рейтинг-классификатор ресурсов российского Интернета, информационный порта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Rambler создан в 1996 год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исковая система Рамблер понимает и различает слова русского, английского и украинского языков. По умолчанию поиск ведётся по всем формам сло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71AC-6537-4D74-AB5D-575ABE99AC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зовите основные способы поиска информации в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каком случае может возникнуть необходимость поиска по уже открытой в браузере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траниц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акие два вида поисковых машин вы знаете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зовите наиболее популярные поисковые машины Интернета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E934-2003-44EE-9E8E-FB9C3241BB4D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Способы поиска информации в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eb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33"/>
                </a:solidFill>
                <a:latin typeface="Arial"/>
              </a:rPr>
              <a:t>Поиск информации – одна из самых востребованных на практике задач, которую приходится решать любому пользователю Интерне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уществуют три основных способа поиска информации в Интерн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Указание адреса страниц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Передвижение по гиперссылк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Обращение к поисковой системе (поисковому сервер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43DA-2B5E-4B53-801F-E81055A1F7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особ 1: Указание адреса страниц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Это самый быстрый способ поиска, но его можно использовать только в том случае, если точно известен адрес документа или сайта, где расположен документ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f5f5f"/>
                </a:solidFill>
                <a:latin typeface="Arial"/>
              </a:rPr>
              <a:t>Не стоит забывать возможность поиска по открытой в окне браузера web-странице (Правка-Найти на этой странице...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24B2-2F61-4A0E-A628-D7368D65B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особ 2: Передвижение по гиперссылкам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Это наименее удобный способ, так как с его помощью можно искать документы, только близкие по смыслу текущему документ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7E86-6CE0-4FC1-A34D-8D15568BAC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пособ 3: 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Обращение к поисковой системе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ьзуясь гипертекстовыми ссылками, можно бесконечно долго путешествовать в информационном пространстве Сети, переходя от одной web-страницы к другой, но если учесть, что в мире созданы многие миллионы web-страниц, то найти на них нужную информацию таким способом вряд ли удастс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помощь приходят специальны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исковые систем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их еще называю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исковыми маш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Адреса поисковых серверов хорошо известны всем, кто работает в Интернете. В настоящее время в русскоязычной части Интернет популярны следующие поисковые серверы: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Яндекс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yandex.ru),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google.ru) 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Rambl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rambler.ru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719-0267-4CEA-B312-C6EC8715A5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исковая система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5825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99"/>
                </a:solidFill>
                <a:uFillTx/>
                <a:latin typeface="Arial"/>
              </a:rPr>
              <a:t>Поисковая система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— веб-сайт, предоставляющий возможность поиска информации в Интернете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инство поисковых систем ищут информацию на сайтах Всемирной паутины, но существуют также системы, способные искать файлы на ftp-серверах, товары в интернет-магазинах, а также информацию в группах новостей Usen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принципу действия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исковые системы делятся н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два типа: </a:t>
            </a:r>
            <a:r>
              <a:rPr b="1" i="1" lang="ru-RU" sz="2600" spc="-1" strike="noStrike">
                <a:solidFill>
                  <a:srgbClr val="800000"/>
                </a:solidFill>
                <a:latin typeface="Arial"/>
              </a:rPr>
              <a:t>поисковые каталог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i="1" lang="ru-RU" sz="2600" spc="-1" strike="noStrike">
                <a:solidFill>
                  <a:srgbClr val="800000"/>
                </a:solidFill>
                <a:latin typeface="Arial"/>
              </a:rPr>
              <a:t>поисковые индекс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0C4-C5AD-4156-BBF3-6D50A8CB0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исковые катало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6633"/>
                </a:solidFill>
                <a:latin typeface="Arial"/>
              </a:rPr>
              <a:t>Поисковые каталоги служат для тематического поиска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Информация на этих серверах структурирована по темам и подтемам. Имея намерение осветить какую-то узкую тему, нетрудно найти список web-страниц, ей посвященных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000099"/>
                </a:solidFill>
                <a:uFillTx/>
                <a:latin typeface="Arial"/>
              </a:rPr>
              <a:t>Катало́г ресурсов в Интернет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ли каталог интернет-ресурсов или просто интернет-каталог </a:t>
            </a:r>
            <a:r>
              <a:rPr b="0" lang="ru-RU" sz="2300" spc="-1" strike="noStrike">
                <a:solidFill>
                  <a:srgbClr val="000099"/>
                </a:solidFill>
                <a:latin typeface="Arial"/>
              </a:rPr>
              <a:t>— структурированный набор ссылок на сайты с кратким их описание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аталог в котором ссылки на сайты внутри категорий сортируются по популярности сайтов называется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Arial"/>
              </a:rPr>
              <a:t>рейтинг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(или топ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246B-1010-4B1E-A3B8-44D55BDBD5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28720" y="404640"/>
            <a:ext cx="7488360" cy="5618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1280" y="61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аталог Яндекс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Подраздел: Культура – Литература -Электронные библиоте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C59-3FE3-4972-B7EF-8DFACD2CB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исковые индекс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6633"/>
                </a:solidFill>
                <a:latin typeface="Arial"/>
              </a:rPr>
              <a:t>Поисковые индексы работают как алфавитные указател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лиент задает слово или группу слов, характеризующих его область поиска, — и получает список ссылок на web-страницы, содержащие указанные терм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вой поисковой системой для Всемирной паутины был «Wandex», уже не существующий индекс, разработанный Мэтью Грэйем из Массачусетского технологического института в 199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A11-5C06-418B-8A71-F0A13BDEB4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7:12:22Z</dcterms:modified>
  <cp:revision>40</cp:revision>
  <dc:subject/>
  <dc:title>Слайд 1</dc:title>
</cp:coreProperties>
</file>